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710787"/>
        <c:axId val="53648678"/>
      </c:barChart>
      <c:catAx>
        <c:axId val="49710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48678"/>
        <c:crosses val="autoZero"/>
        <c:auto val="1"/>
        <c:lblAlgn val="ctr"/>
        <c:lblOffset val="100"/>
        <c:noMultiLvlLbl val="0"/>
      </c:catAx>
      <c:valAx>
        <c:axId val="53648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10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891-17A1-4B89-9D85-2FFEFA2D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85BA-1291-46C8-BDF9-6357D1B4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A9B-2268-4A65-A4CD-21B89D7D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2C1-B50D-4BE4-B311-4D42FB09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B8CA-E4F1-4B92-BD40-C6BB4F75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5BD0-DC4C-4EAE-8F61-A2C0795C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9C3-DEA5-45FE-8A7F-A6FD09E3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F13-6968-4AF8-9D54-A671A584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6C6B-B2CC-4A43-A069-A4B3B0D0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52DB-6F8F-41EA-9208-190D2F01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7E52-394B-40A4-BD05-05811DC0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E79F-BA73-49A7-8A9D-7CE2A656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194E3-7F44-47B4-AFA8-A5DCDA33CC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