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4730"/>
        <c:axId val="93463154"/>
      </c:barChart>
      <c:catAx>
        <c:axId val="4284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63154"/>
        <c:crosses val="autoZero"/>
        <c:auto val="1"/>
        <c:lblAlgn val="ctr"/>
        <c:lblOffset val="100"/>
        <c:noMultiLvlLbl val="0"/>
      </c:catAx>
      <c:valAx>
        <c:axId val="93463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4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3CA-D38F-4599-BF72-87314871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729-2C30-4C8B-845D-5E6B92B9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144-F529-4B90-99D3-F88873B7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3E0-2325-41A1-9A1A-A8833CD4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5E0-6E32-4C5E-BF53-ABD3CFD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B41-A94E-40A4-A679-EDC5D358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ABF-C58B-4AF9-92CC-D5A9E801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128-BC19-4E9A-92CB-6D32778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BC0-A4A6-4AE4-B760-7B60D310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65C-80BE-4062-A881-430DE581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5FA-914F-45AA-B1F1-719A096F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D6E-D12E-49B6-B31A-A5544D2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9B14E-EAA0-42C3-870C-FE80B455AA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